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3AA3-0FDF-4026-A390-DDC27FC0A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DE02-B8B4-46F6-86AE-BDB71F1C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04BA5-B120-4BC8-9A00-0ADCA86A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3B7C6-FCFC-4BAF-B6BC-9E75C2A9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BE6E8E-70B4-4D8E-8B8F-BE6F4D9D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D7FBA-238C-4B1E-8B7D-1B17FA25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144A98-74B6-464F-BE02-C5626C4A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2C396-CCD5-484A-905A-B06BF820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94CA6D-58B9-4DB2-8B3E-B0A862EB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99BC7-5BB9-4796-83CB-7F45A6DD8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7AB5FE-E0B8-474A-A507-A255F8010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C6E75E-D31E-4890-A30E-679472DF2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9C79-C800-4FF7-B4EC-17FA8408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02F7E2-1D7B-416F-BAC3-7E21A787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5BA3D-D492-4A58-9E6A-2C5CDF8B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DDD2D0-2999-49DE-B60E-2F666785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4F79B2-6F84-42E1-BFC2-A2DD70CA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23D01-B8E5-4347-B6CA-46013277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C6211-B914-4E00-A4E1-E8C0F1B2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A35A85-BEF8-4198-A12C-E19B4D8D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C3D8C4-69D4-41B1-B765-4FEFA0F4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F79F8-CE70-43B0-85AD-DBC1F2C5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947688-9D87-4491-84A5-D86B9B07F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71FE-CE0B-45FA-9EFF-D896ABB76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11E55-6185-43F4-97D4-C8AF1E352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6807C-C549-4021-B568-08D8D3FDD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6FBEC-7ED6-4F44-B3C4-8B635B80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EBC62-E3B2-4B33-AE12-A375BEF8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DF8DD-9C0C-4714-89C8-27E07FAE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8898C-B2E1-4837-891F-64ACBC10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3FF57-EC4A-4ADD-BCA4-91DC6F7F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2FFDA-2FAC-494D-82F7-33B7D84C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9A068-5920-4737-94EC-DE0880B2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30CC0-BC62-4F8E-B100-160B5894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ACB2-54CF-406A-A33A-0D5101BE3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C7C36-0BB8-40B6-8B05-5F0C94C4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D0D47-9858-4AB8-B9A0-A326300ED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A7ED6-5C8C-463D-A839-F84FA0A17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0F73DB-83CB-4F00-8F24-CE560C819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4DE285-292F-4038-8D8E-363BB4AC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329C15-A5F9-46A9-8EEF-26F5F611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019B04-11B9-4711-94EA-E101123C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44F5C-6458-4FD2-A4A1-2FB180FF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B18BA8-5812-4590-8065-9102F937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9E693F-9845-459C-B393-276693F9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BB6DF-720E-4E20-9F5B-08F724AD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CB9F66-8B19-4D4A-B0EB-B450FBAB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884205-AE02-49D8-BF47-300AB3F9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04B60E-2257-4B9C-AD7D-DB53C576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9B0036-E2A9-47FE-A2D0-D5A65C023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C2A30C-4D04-46B0-9B5D-260C42827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C5A3D1-D434-4D07-AAF8-571339FA1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4EEE0F-CD0B-442C-AA11-CDD6AFAE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369C57-E3E6-4671-B7D2-C9B15834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962652-B95E-429C-B8CC-2763CD8C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614DD0-DA39-4E7A-8AFC-E31381BB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B1D1-AE6C-4165-AE4F-B26B4F21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634B12-BFD0-4ED6-AA0B-8473EF59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0D2355-1BB2-4D21-A93A-13E1FEDA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CA4999-90AF-4865-99FF-C23C7DCA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34C973-8051-4B82-B94C-1A756196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6C4D38-55DE-4B15-B737-91887141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0964ED-9283-4D66-BB68-7D4063648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784D56-EEC0-4ABD-9B5F-8CCF6FCD7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96ECED-7A58-4854-9A6B-2B0AC0FE8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CE949D-4DA7-4BC7-9E0C-365DFA61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7CF193-08F4-406A-BB19-45B26CB7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B927-BBE4-4F66-80E1-7E87BF96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FDB965-B2B2-4BB3-8DC6-14D9AC7F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17E03C-3A53-4BD1-9538-400F0F6C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8CB873-BAA0-43BC-9DCA-72589184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DEB506-3558-4F79-85FC-00EBD5F8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F833CA-9A36-43C7-8F72-B2CB2124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351B8B-90E1-4F6C-BF0E-B7EFB1BC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76D548-355B-4580-A7AF-EB3A64E9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66C131-C15B-4A5D-82DB-5AEB70ECF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00B565-F4BC-426B-9C80-A4A6C1073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7B7F7B-706E-43B3-9AAE-43920BC2F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D67E-0929-448A-9D71-D70751E6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02A318-C5AA-4BC0-954D-5CF6F7A1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C30A68-8E95-45E0-B5BD-8CD569CE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B5A27F-D7A9-4990-91FF-D3BEEF32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C81E0C-ECD4-4BF8-ACB1-21947636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A3368C-3974-4224-97F5-FFF0E976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DEF819-5EBD-4E1A-9AEA-CF7365AC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45E8DD-918D-45A0-BCF6-B0A20A76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AEE736-9659-47B0-B171-D3B4E290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B9C37F-CF92-4478-BCE6-12A02448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1134B6-0341-4011-A7AC-E1647DDFA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9E4D-7E38-4493-BA3F-F494F256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7AA5BF-01EC-468B-A80D-F9684D5CE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3A80B0-173D-4940-9F92-89A9D852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07FBFC-79F3-4C76-A95D-5D6B7570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0CFC95-7BB1-4043-B1DD-312BCBFE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E57F13-9C39-485B-8E2B-B9B437CB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18FBDF-8569-473A-A829-468D6020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931B96-A761-4D67-8B0A-D1D9FE99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851DE6-19D4-4646-BDA2-D4CB1624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9BC066-B8B5-4C57-8D9B-65D03C17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B89E92-19B0-462A-93C2-A488CC95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8827-B3D5-4463-9F8F-EBAC1214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88AAD9-87CC-47E6-9EA3-94CEE4BB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9CDA93-9FF2-4000-BC59-215C9042A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21747B-1BB6-4C4E-8C60-1E7EA7D0B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32419A-D59E-4CE2-830F-5DAE77BDC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BB3218-6A0D-433D-84D4-DF1D43B7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D589B2-FDC2-4470-BAA5-C0A69411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F06012-0AA6-4E9B-83B8-E9D3B9E1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947CB1-462D-44DA-A066-5624295F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154A81-D5E0-4A6D-95B3-551FE2A2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3B4DA5-4592-4E9C-A8E5-1CB454C6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6E97-E68F-4A04-B52F-09AC6FCB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0892-8E38-477C-A30F-B8D8CE8D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85E1B0-1D07-4EE8-B1CF-3837DF69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FCE202-4F18-49F5-B351-D6FACB01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2E34D9-8788-46C6-933D-E075058D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5C8DFE-3939-4EA5-9955-1B353BCE6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2B63C0-B870-4726-B292-9498B7884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0432-851A-42EA-B137-8572A8C0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6A1F-D2BB-46A3-9DFD-EFC84FCD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0A04-48E4-43EA-BC89-2198214E0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004F-1FBA-4F7D-BC13-5B92CE4D3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C5A8A-44EE-43B3-A89D-E246F4284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A7B4A-0612-47E3-B373-447A4ACD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53BD0-E737-4854-AC4A-9A532068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79184-48DA-4B3D-8108-F56600E3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A4840-2E39-4E61-8FF7-62F08A1D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BAFB-493A-4A8F-8740-26166494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E52FD-41A4-4D16-B5D1-B4A4E83F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1EA50-FF49-4362-8067-A8855F94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0EAAF-94E4-452E-9916-F3085E41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BD5E7-91C1-4CCA-8279-3019A174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FE1FD-8B52-4A45-A14A-CD40DD64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4F203-941D-4345-B7C0-7BAB42736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099E5-7FAF-4FC9-B215-BB16EE2A6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220D9-1549-47DC-BC0B-CC816074F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2141F-69A1-4D74-865B-317D44B7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81AB8-18C7-4B63-BE53-C88EE185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165D-C592-4B9F-8A61-A7E9ABE6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902B3-5FFF-41F0-B78D-BF4AE80D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4D687-4122-443F-A268-A480F454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474E4-B42A-41CC-9FB7-AA040B83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49AD6-579E-4BAF-8C69-0D300139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C2A03-32EA-49EA-9D99-D7823D37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2FCE3-A69F-4D6D-983A-75CCBE71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7FFFC-6066-4E6D-A265-8C541A7F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BBC8D-3E4C-4E2B-BDB9-9020A6879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A81CD-8624-4B82-9C95-15D2E5D86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C1A4F-B797-40E5-B631-D9493D639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C6AA-F3E3-4E21-8386-DEA10BFE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8E334-F165-440F-B72F-5CC1B594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6EA2C-B637-4701-BAFD-0CD5149A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15321-C306-4524-B2F3-9E642FE6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8D0B3-2DD3-4A8F-A732-212B59EB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38D6D-4E29-4E78-ADF8-90887E2B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51D02-7EAD-475F-B35B-DFE48E52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7FB96-4588-4E64-A381-EE0E0189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FCD20-8125-406B-A983-32E326BB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2C725-0C8F-4BA2-9797-1DCFFFFF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99C98-BF77-4684-AFD3-8D74704E4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AD93-223E-4427-A471-9592D578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7CCF1-B614-49EB-A4D2-7D83F6B93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709B9-9490-462C-9F1B-81E1F31BC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E7128-49E9-42FB-9435-A3669387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D457A-822E-41E4-BEBA-1C43B8DA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B1344-7B7A-49BE-973F-2DDF4085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2FFF3-AC63-4A11-A8A4-E3C25DBE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96415-0CA4-445B-B8E6-DA709117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689BE-C6AC-4474-89C5-9025EAC9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49F21-AF4C-45F4-BB06-B574EE42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D5811-9F06-4501-A948-34E5EB75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F770-D8FC-46E1-A26D-3AAA3C17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C75D7-1A2E-4C11-B6DE-FFF0A8C3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2E58F-1F60-455D-A6DE-BF289985E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36D97-904E-4A32-A0AA-084D720F6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D7F4B-B47E-49BD-91C9-241B408B7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B1E35-E510-4552-A71B-01137EA3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B9CBD-987B-43F2-ADAE-2624A25D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05559-7918-4F74-887B-CB6D42F5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10EA3-89BE-41A9-B5C7-3D196B9E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9D767-8968-459E-A075-9531E2F8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40EC2-C94E-474E-9224-356CB1FC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9514-FAF0-4D96-8C36-CEDE4869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E7D88-7C92-4524-BEF9-F929637A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A2746-0ADD-42D2-93A1-5B44D07F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737F5-E37E-46B1-AAF6-31914185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AC209-4F24-488C-9C3D-B63DA4F3A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A137B-0DAF-4B88-B9C9-9AD12CC7A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E12D3-2398-4BA2-BB21-989035647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51F3E-1AE3-474A-8B75-B060E5ED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84452-7F3B-4368-890D-AD693991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BFA4F-3610-497A-9F0B-9FB1D39A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9045A-2060-4DEF-B43E-48393968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ADF2-EAE7-42C4-8520-91BD6C43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1420E-9B3C-4A8E-8FC4-27A7A0EB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C0B58-F5F6-4684-BB8F-D24E7831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64580-56A4-4658-96D0-7DBFCE7F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E4D05-7A5D-4D55-8D1D-3E1BC7B7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1EB34-78DF-4EE7-A9E2-5F146F77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208F4-073E-4FE6-8A9E-B93177556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4796C-DA8A-4CCE-BA9D-9A78B04DA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C36DA-BDA0-487E-8F5A-BAC73071A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97B00-D5F8-4694-A748-BF9267ED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A8369-CB91-4CDF-B5BE-736CE215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9D8A-B58C-4403-B959-913F51D904ED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1878-4112-481D-A5BA-683E16DFF77A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4805-02B0-4E83-B07F-8A9481A552ED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C955-9D6D-4708-809D-ED28CBE9DEAF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6E5C-FD3A-4881-9155-88A0EA4434B5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FCB3-6872-45B6-9072-1B5C3EB6DF0B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AA3F-2D6C-40B4-9788-60C93104B9AB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87CE-31D8-409A-B5FA-3547A3DD988D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A360-A09F-4BC5-A413-DCE8BA013195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9980-7DCC-44F1-9C7C-60C677293588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1EEF-6741-449B-8DD3-D8DBE7087584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D6D9-26CF-4091-8E58-0E1A96045C4D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2A6F-DB3B-4665-AA87-2DF5FA068EA9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7ECC-6494-4F75-832B-3A1581D671CD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EE0B-A0E9-4B09-95EA-5139F76B48DA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1539-0DAF-41C9-BDCB-CCE7C2CB8CC1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85B0-A2B9-498B-9511-5B56CFF7A14E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573120" y="29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 u="sng">
                <a:solidFill>
                  <a:srgbClr val="000000"/>
                </a:solidFill>
                <a:uFillTx/>
                <a:latin typeface="Arial"/>
              </a:rPr>
              <a:t>Learning Outcom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38120" y="1346040"/>
            <a:ext cx="8400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raw a ray diagram to find the position, nature and size of the image produced by a 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concave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convex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mi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28560" y="17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Ray Diagra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800" y="1274760"/>
            <a:ext cx="77724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same rules can be applied to convex mirror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ll convex mirror images are 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virt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5"/>
          <p:cNvSpPr/>
          <p:nvPr/>
        </p:nvSpPr>
        <p:spPr>
          <a:xfrm>
            <a:off x="1353960" y="2952720"/>
            <a:ext cx="5751720" cy="328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Picture 6" descr="j0237671"/>
          <p:cNvPicPr/>
          <p:nvPr/>
        </p:nvPicPr>
        <p:blipFill>
          <a:blip r:embed="rId1"/>
          <a:stretch/>
        </p:blipFill>
        <p:spPr>
          <a:xfrm>
            <a:off x="2065320" y="3297240"/>
            <a:ext cx="433440" cy="1527120"/>
          </a:xfrm>
          <a:prstGeom prst="rect">
            <a:avLst/>
          </a:prstGeom>
          <a:ln w="0">
            <a:noFill/>
          </a:ln>
        </p:spPr>
      </p:pic>
      <p:grpSp>
        <p:nvGrpSpPr>
          <p:cNvPr id="849" name="Group 20"/>
          <p:cNvGrpSpPr/>
          <p:nvPr/>
        </p:nvGrpSpPr>
        <p:grpSpPr>
          <a:xfrm>
            <a:off x="4754160" y="3511440"/>
            <a:ext cx="1682280" cy="2724120"/>
            <a:chOff x="4754160" y="3511440"/>
            <a:chExt cx="1682280" cy="2724120"/>
          </a:xfrm>
        </p:grpSpPr>
        <p:sp>
          <p:nvSpPr>
            <p:cNvPr id="850" name="AutoShape 9"/>
            <p:cNvSpPr/>
            <p:nvPr/>
          </p:nvSpPr>
          <p:spPr>
            <a:xfrm flipH="1">
              <a:off x="4753800" y="3727800"/>
              <a:ext cx="1567080" cy="2314440"/>
            </a:xfrm>
            <a:prstGeom prst="flowChartDelay">
              <a:avLst/>
            </a:prstGeom>
            <a:solidFill>
              <a:srgbClr val="ffffff"/>
            </a:solidFill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AutoShape 8"/>
            <p:cNvSpPr/>
            <p:nvPr/>
          </p:nvSpPr>
          <p:spPr>
            <a:xfrm flipH="1">
              <a:off x="4862520" y="3781800"/>
              <a:ext cx="1551960" cy="2214720"/>
            </a:xfrm>
            <a:prstGeom prst="flowChartDelay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Rectangle 10"/>
            <p:cNvSpPr/>
            <p:nvPr/>
          </p:nvSpPr>
          <p:spPr>
            <a:xfrm flipH="1">
              <a:off x="5542200" y="3511440"/>
              <a:ext cx="893880" cy="272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3" name="Line 11"/>
          <p:cNvSpPr/>
          <p:nvPr/>
        </p:nvSpPr>
        <p:spPr>
          <a:xfrm flipH="1">
            <a:off x="2087280" y="4835520"/>
            <a:ext cx="43275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12"/>
          <p:cNvSpPr/>
          <p:nvPr/>
        </p:nvSpPr>
        <p:spPr>
          <a:xfrm>
            <a:off x="6313320" y="4654440"/>
            <a:ext cx="1908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13"/>
          <p:cNvSpPr/>
          <p:nvPr/>
        </p:nvSpPr>
        <p:spPr>
          <a:xfrm>
            <a:off x="2238480" y="3903840"/>
            <a:ext cx="2520720" cy="91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15"/>
          <p:cNvSpPr/>
          <p:nvPr/>
        </p:nvSpPr>
        <p:spPr>
          <a:xfrm>
            <a:off x="2247840" y="3868560"/>
            <a:ext cx="287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16"/>
          <p:cNvSpPr/>
          <p:nvPr/>
        </p:nvSpPr>
        <p:spPr>
          <a:xfrm flipH="1">
            <a:off x="2306160" y="4838760"/>
            <a:ext cx="2452680" cy="89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17"/>
          <p:cNvSpPr/>
          <p:nvPr/>
        </p:nvSpPr>
        <p:spPr>
          <a:xfrm>
            <a:off x="2266920" y="3911760"/>
            <a:ext cx="2536920" cy="51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18"/>
          <p:cNvSpPr/>
          <p:nvPr/>
        </p:nvSpPr>
        <p:spPr>
          <a:xfrm flipH="1" flipV="1">
            <a:off x="1601280" y="4419360"/>
            <a:ext cx="3225960" cy="4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Picture 19" descr="j0237671"/>
          <p:cNvPicPr/>
          <p:nvPr/>
        </p:nvPicPr>
        <p:blipFill>
          <a:blip r:embed="rId2"/>
          <a:stretch/>
        </p:blipFill>
        <p:spPr>
          <a:xfrm>
            <a:off x="5737320" y="4145040"/>
            <a:ext cx="191880" cy="681120"/>
          </a:xfrm>
          <a:prstGeom prst="rect">
            <a:avLst/>
          </a:prstGeom>
          <a:ln w="0">
            <a:noFill/>
          </a:ln>
        </p:spPr>
      </p:pic>
      <p:sp>
        <p:nvSpPr>
          <p:cNvPr id="861" name="Line 21"/>
          <p:cNvSpPr/>
          <p:nvPr/>
        </p:nvSpPr>
        <p:spPr>
          <a:xfrm>
            <a:off x="5124600" y="3867120"/>
            <a:ext cx="1749240" cy="1393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22"/>
          <p:cNvSpPr/>
          <p:nvPr/>
        </p:nvSpPr>
        <p:spPr>
          <a:xfrm flipH="1" flipV="1">
            <a:off x="4141800" y="3092400"/>
            <a:ext cx="982800" cy="77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23"/>
          <p:cNvSpPr/>
          <p:nvPr/>
        </p:nvSpPr>
        <p:spPr>
          <a:xfrm flipV="1">
            <a:off x="4819680" y="4416120"/>
            <a:ext cx="1947960" cy="12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24"/>
          <p:cNvSpPr/>
          <p:nvPr/>
        </p:nvSpPr>
        <p:spPr>
          <a:xfrm flipV="1">
            <a:off x="4749840" y="4133880"/>
            <a:ext cx="1768320" cy="704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22"/>
          <p:cNvSpPr/>
          <p:nvPr/>
        </p:nvSpPr>
        <p:spPr>
          <a:xfrm>
            <a:off x="1538280" y="2889360"/>
            <a:ext cx="12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22"/>
          <p:cNvSpPr/>
          <p:nvPr/>
        </p:nvSpPr>
        <p:spPr>
          <a:xfrm>
            <a:off x="5157720" y="4908600"/>
            <a:ext cx="12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22"/>
          <p:cNvSpPr/>
          <p:nvPr/>
        </p:nvSpPr>
        <p:spPr>
          <a:xfrm>
            <a:off x="6059520" y="4432320"/>
            <a:ext cx="8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7680" y="-38160"/>
            <a:ext cx="7772400" cy="11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800" spc="-1" strike="noStrike" u="sng">
                <a:solidFill>
                  <a:srgbClr val="000000"/>
                </a:solidFill>
                <a:uFillTx/>
                <a:latin typeface="Arial"/>
              </a:rPr>
              <a:t>Plane Mirr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Picture 5" descr="j0237671"/>
          <p:cNvPicPr/>
          <p:nvPr/>
        </p:nvPicPr>
        <p:blipFill>
          <a:blip r:embed="rId1"/>
          <a:stretch/>
        </p:blipFill>
        <p:spPr>
          <a:xfrm>
            <a:off x="4064040" y="423720"/>
            <a:ext cx="581040" cy="241164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9" descr="j0238189"/>
          <p:cNvPicPr/>
          <p:nvPr/>
        </p:nvPicPr>
        <p:blipFill>
          <a:blip r:embed="rId2"/>
          <a:stretch/>
        </p:blipFill>
        <p:spPr>
          <a:xfrm rot="16200000">
            <a:off x="3305160" y="4187880"/>
            <a:ext cx="1396800" cy="79056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29" descr="j0237671"/>
          <p:cNvPicPr/>
          <p:nvPr/>
        </p:nvPicPr>
        <p:blipFill>
          <a:blip r:embed="rId3"/>
          <a:stretch/>
        </p:blipFill>
        <p:spPr>
          <a:xfrm flipH="1">
            <a:off x="7437600" y="390600"/>
            <a:ext cx="620640" cy="2577960"/>
          </a:xfrm>
          <a:prstGeom prst="rect">
            <a:avLst/>
          </a:prstGeom>
          <a:ln w="0">
            <a:noFill/>
          </a:ln>
        </p:spPr>
      </p:pic>
      <p:sp>
        <p:nvSpPr>
          <p:cNvPr id="716" name="Line 31"/>
          <p:cNvSpPr/>
          <p:nvPr/>
        </p:nvSpPr>
        <p:spPr>
          <a:xfrm>
            <a:off x="5937120" y="309600"/>
            <a:ext cx="0" cy="4695840"/>
          </a:xfrm>
          <a:prstGeom prst="line">
            <a:avLst/>
          </a:prstGeom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32"/>
          <p:cNvSpPr/>
          <p:nvPr/>
        </p:nvSpPr>
        <p:spPr>
          <a:xfrm>
            <a:off x="4241880" y="1389240"/>
            <a:ext cx="1666800" cy="132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33"/>
          <p:cNvSpPr/>
          <p:nvPr/>
        </p:nvSpPr>
        <p:spPr>
          <a:xfrm flipH="1">
            <a:off x="4235400" y="2743200"/>
            <a:ext cx="1666800" cy="1325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34"/>
          <p:cNvSpPr/>
          <p:nvPr/>
        </p:nvSpPr>
        <p:spPr>
          <a:xfrm flipH="1">
            <a:off x="5915160" y="1414440"/>
            <a:ext cx="1666800" cy="1325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35"/>
          <p:cNvSpPr/>
          <p:nvPr/>
        </p:nvSpPr>
        <p:spPr>
          <a:xfrm>
            <a:off x="4226040" y="1389240"/>
            <a:ext cx="1681200" cy="178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36"/>
          <p:cNvSpPr/>
          <p:nvPr/>
        </p:nvSpPr>
        <p:spPr>
          <a:xfrm flipV="1">
            <a:off x="4425840" y="3200400"/>
            <a:ext cx="1492200" cy="1603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37"/>
          <p:cNvSpPr/>
          <p:nvPr/>
        </p:nvSpPr>
        <p:spPr>
          <a:xfrm flipH="1">
            <a:off x="5945040" y="1379520"/>
            <a:ext cx="1681200" cy="1782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40"/>
          <p:cNvSpPr/>
          <p:nvPr/>
        </p:nvSpPr>
        <p:spPr>
          <a:xfrm>
            <a:off x="5996160" y="326880"/>
            <a:ext cx="0" cy="4646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42"/>
          <p:cNvSpPr/>
          <p:nvPr/>
        </p:nvSpPr>
        <p:spPr>
          <a:xfrm>
            <a:off x="3525840" y="5264280"/>
            <a:ext cx="225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Light from object reflects into 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43"/>
          <p:cNvSpPr/>
          <p:nvPr/>
        </p:nvSpPr>
        <p:spPr>
          <a:xfrm flipH="1">
            <a:off x="6458040" y="3203640"/>
            <a:ext cx="24192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Eye sees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back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Image is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virtual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laterally inve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39720" y="165240"/>
            <a:ext cx="77724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800" spc="-1" strike="noStrike" u="sng">
                <a:solidFill>
                  <a:srgbClr val="000000"/>
                </a:solidFill>
                <a:uFillTx/>
                <a:latin typeface="Arial"/>
              </a:rPr>
              <a:t>Curved (Concave) Mirr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73120" y="4603680"/>
            <a:ext cx="8570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 = pole ,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a = principal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 = centre of curvature,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 = radius of curv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F = Focal point or focus,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f = focal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f = c /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Group 29"/>
          <p:cNvGrpSpPr/>
          <p:nvPr/>
        </p:nvGrpSpPr>
        <p:grpSpPr>
          <a:xfrm>
            <a:off x="731880" y="1198440"/>
            <a:ext cx="7698960" cy="2995560"/>
            <a:chOff x="731880" y="1198440"/>
            <a:chExt cx="7698960" cy="2995560"/>
          </a:xfrm>
        </p:grpSpPr>
        <p:sp>
          <p:nvSpPr>
            <p:cNvPr id="729" name="Rectangle 5"/>
            <p:cNvSpPr/>
            <p:nvPr/>
          </p:nvSpPr>
          <p:spPr>
            <a:xfrm>
              <a:off x="731880" y="1198440"/>
              <a:ext cx="7698960" cy="2995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AutoShape 7"/>
            <p:cNvSpPr/>
            <p:nvPr/>
          </p:nvSpPr>
          <p:spPr>
            <a:xfrm>
              <a:off x="5409720" y="1353960"/>
              <a:ext cx="2079000" cy="2675520"/>
            </a:xfrm>
            <a:prstGeom prst="flowChartDelay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AutoShape 8"/>
            <p:cNvSpPr/>
            <p:nvPr/>
          </p:nvSpPr>
          <p:spPr>
            <a:xfrm>
              <a:off x="5227920" y="1489680"/>
              <a:ext cx="2100240" cy="2426400"/>
            </a:xfrm>
            <a:prstGeom prst="flowChartDelay">
              <a:avLst/>
            </a:prstGeom>
            <a:solidFill>
              <a:srgbClr val="ffffff"/>
            </a:solidFill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9"/>
            <p:cNvSpPr/>
            <p:nvPr/>
          </p:nvSpPr>
          <p:spPr>
            <a:xfrm>
              <a:off x="4931640" y="1274400"/>
              <a:ext cx="1557720" cy="285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10"/>
            <p:cNvSpPr/>
            <p:nvPr/>
          </p:nvSpPr>
          <p:spPr>
            <a:xfrm flipH="1">
              <a:off x="890280" y="2646720"/>
              <a:ext cx="63673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11"/>
            <p:cNvSpPr/>
            <p:nvPr/>
          </p:nvSpPr>
          <p:spPr>
            <a:xfrm>
              <a:off x="4912560" y="2545200"/>
              <a:ext cx="2340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20"/>
            <p:cNvSpPr/>
            <p:nvPr/>
          </p:nvSpPr>
          <p:spPr>
            <a:xfrm>
              <a:off x="2852640" y="2541960"/>
              <a:ext cx="23400" cy="21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Text Box 21"/>
            <p:cNvSpPr/>
            <p:nvPr/>
          </p:nvSpPr>
          <p:spPr>
            <a:xfrm>
              <a:off x="2562480" y="2747880"/>
              <a:ext cx="58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Text Box 22"/>
            <p:cNvSpPr/>
            <p:nvPr/>
          </p:nvSpPr>
          <p:spPr>
            <a:xfrm>
              <a:off x="4548600" y="2698920"/>
              <a:ext cx="83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Text Box 23"/>
            <p:cNvSpPr/>
            <p:nvPr/>
          </p:nvSpPr>
          <p:spPr>
            <a:xfrm>
              <a:off x="6718680" y="2633760"/>
              <a:ext cx="78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24"/>
            <p:cNvSpPr/>
            <p:nvPr/>
          </p:nvSpPr>
          <p:spPr>
            <a:xfrm>
              <a:off x="2856960" y="2341800"/>
              <a:ext cx="442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Text Box 25"/>
            <p:cNvSpPr/>
            <p:nvPr/>
          </p:nvSpPr>
          <p:spPr>
            <a:xfrm>
              <a:off x="3172320" y="1962360"/>
              <a:ext cx="370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Text Box 26"/>
            <p:cNvSpPr/>
            <p:nvPr/>
          </p:nvSpPr>
          <p:spPr>
            <a:xfrm>
              <a:off x="1004760" y="2391840"/>
              <a:ext cx="108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p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27"/>
            <p:cNvSpPr/>
            <p:nvPr/>
          </p:nvSpPr>
          <p:spPr>
            <a:xfrm flipV="1">
              <a:off x="4954680" y="3065040"/>
              <a:ext cx="2326680" cy="1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Text Box 28"/>
            <p:cNvSpPr/>
            <p:nvPr/>
          </p:nvSpPr>
          <p:spPr>
            <a:xfrm>
              <a:off x="5723280" y="3052440"/>
              <a:ext cx="81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800" spc="-1" strike="noStrike" u="sng">
                <a:solidFill>
                  <a:srgbClr val="000000"/>
                </a:solidFill>
                <a:uFillTx/>
                <a:latin typeface="Arial"/>
              </a:rPr>
              <a:t>Ray Diagra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687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Rule 1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: An incident ray parallel to the pa is reflected back through the focal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6"/>
          <p:cNvSpPr/>
          <p:nvPr/>
        </p:nvSpPr>
        <p:spPr>
          <a:xfrm>
            <a:off x="2438280" y="2913120"/>
            <a:ext cx="5005440" cy="3602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Group 7"/>
          <p:cNvGrpSpPr/>
          <p:nvPr/>
        </p:nvGrpSpPr>
        <p:grpSpPr>
          <a:xfrm>
            <a:off x="4889520" y="3435480"/>
            <a:ext cx="1601640" cy="2622240"/>
            <a:chOff x="4889520" y="3435480"/>
            <a:chExt cx="1601640" cy="2622240"/>
          </a:xfrm>
        </p:grpSpPr>
        <p:sp>
          <p:nvSpPr>
            <p:cNvPr id="748" name="AutoShape 8"/>
            <p:cNvSpPr/>
            <p:nvPr/>
          </p:nvSpPr>
          <p:spPr>
            <a:xfrm>
              <a:off x="5140080" y="3519360"/>
              <a:ext cx="1351080" cy="2455920"/>
            </a:xfrm>
            <a:prstGeom prst="flowChartDelay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AutoShape 9"/>
            <p:cNvSpPr/>
            <p:nvPr/>
          </p:nvSpPr>
          <p:spPr>
            <a:xfrm>
              <a:off x="5021640" y="3644280"/>
              <a:ext cx="1364760" cy="2228040"/>
            </a:xfrm>
            <a:prstGeom prst="flowChartDelay">
              <a:avLst/>
            </a:prstGeom>
            <a:solidFill>
              <a:srgbClr val="ffffff"/>
            </a:solidFill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10"/>
            <p:cNvSpPr/>
            <p:nvPr/>
          </p:nvSpPr>
          <p:spPr>
            <a:xfrm>
              <a:off x="4889520" y="3435480"/>
              <a:ext cx="778680" cy="262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1" name="Line 11"/>
          <p:cNvSpPr/>
          <p:nvPr/>
        </p:nvSpPr>
        <p:spPr>
          <a:xfrm flipH="1">
            <a:off x="2642760" y="4746600"/>
            <a:ext cx="3699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2"/>
          <p:cNvSpPr/>
          <p:nvPr/>
        </p:nvSpPr>
        <p:spPr>
          <a:xfrm>
            <a:off x="5288040" y="4570560"/>
            <a:ext cx="14040" cy="35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3"/>
          <p:cNvSpPr/>
          <p:nvPr/>
        </p:nvSpPr>
        <p:spPr>
          <a:xfrm>
            <a:off x="2774880" y="3851280"/>
            <a:ext cx="328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4"/>
          <p:cNvSpPr/>
          <p:nvPr/>
        </p:nvSpPr>
        <p:spPr>
          <a:xfrm flipH="1">
            <a:off x="4493880" y="3851280"/>
            <a:ext cx="1569960" cy="185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Picture 15" descr="j0237671"/>
          <p:cNvPicPr/>
          <p:nvPr/>
        </p:nvPicPr>
        <p:blipFill>
          <a:blip r:embed="rId1"/>
          <a:stretch/>
        </p:blipFill>
        <p:spPr>
          <a:xfrm>
            <a:off x="2658960" y="3287880"/>
            <a:ext cx="306360" cy="1479240"/>
          </a:xfrm>
          <a:prstGeom prst="rect">
            <a:avLst/>
          </a:prstGeom>
          <a:ln w="0">
            <a:noFill/>
          </a:ln>
        </p:spPr>
      </p:pic>
      <p:sp>
        <p:nvSpPr>
          <p:cNvPr id="756" name="Text Box 22"/>
          <p:cNvSpPr/>
          <p:nvPr/>
        </p:nvSpPr>
        <p:spPr>
          <a:xfrm>
            <a:off x="5062680" y="4699080"/>
            <a:ext cx="8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800" spc="-1" strike="noStrike" u="sng">
                <a:solidFill>
                  <a:srgbClr val="000000"/>
                </a:solidFill>
                <a:uFillTx/>
                <a:latin typeface="Arial"/>
              </a:rPr>
              <a:t>Ray Diagra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708120" y="1663560"/>
            <a:ext cx="7510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Rule 2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: An incident ray that passes through the focal point on the way to the mirror is reflected back parallel to the p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Group 19"/>
          <p:cNvGrpSpPr/>
          <p:nvPr/>
        </p:nvGrpSpPr>
        <p:grpSpPr>
          <a:xfrm>
            <a:off x="1994040" y="3745080"/>
            <a:ext cx="4898880" cy="2786040"/>
            <a:chOff x="1994040" y="3745080"/>
            <a:chExt cx="4898880" cy="2786040"/>
          </a:xfrm>
        </p:grpSpPr>
        <p:sp>
          <p:nvSpPr>
            <p:cNvPr id="760" name="Rectangle 5"/>
            <p:cNvSpPr/>
            <p:nvPr/>
          </p:nvSpPr>
          <p:spPr>
            <a:xfrm>
              <a:off x="1994040" y="3745080"/>
              <a:ext cx="4898880" cy="2786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1" name="Picture 14" descr="j0237671"/>
            <p:cNvPicPr/>
            <p:nvPr/>
          </p:nvPicPr>
          <p:blipFill>
            <a:blip r:embed="rId1"/>
            <a:stretch/>
          </p:blipFill>
          <p:spPr>
            <a:xfrm>
              <a:off x="2568960" y="4031640"/>
              <a:ext cx="367560" cy="1136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2" name="Group 6"/>
          <p:cNvGrpSpPr/>
          <p:nvPr/>
        </p:nvGrpSpPr>
        <p:grpSpPr>
          <a:xfrm>
            <a:off x="4770360" y="4149720"/>
            <a:ext cx="1567080" cy="2028960"/>
            <a:chOff x="4770360" y="4149720"/>
            <a:chExt cx="1567080" cy="2028960"/>
          </a:xfrm>
        </p:grpSpPr>
        <p:sp>
          <p:nvSpPr>
            <p:cNvPr id="763" name="AutoShape 7"/>
            <p:cNvSpPr/>
            <p:nvPr/>
          </p:nvSpPr>
          <p:spPr>
            <a:xfrm>
              <a:off x="5015520" y="4214520"/>
              <a:ext cx="1321920" cy="1900080"/>
            </a:xfrm>
            <a:prstGeom prst="flowChartDelay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AutoShape 8"/>
            <p:cNvSpPr/>
            <p:nvPr/>
          </p:nvSpPr>
          <p:spPr>
            <a:xfrm>
              <a:off x="4899600" y="4311000"/>
              <a:ext cx="1335240" cy="1723680"/>
            </a:xfrm>
            <a:prstGeom prst="flowChartDelay">
              <a:avLst/>
            </a:prstGeom>
            <a:solidFill>
              <a:srgbClr val="ffffff"/>
            </a:solidFill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9"/>
            <p:cNvSpPr/>
            <p:nvPr/>
          </p:nvSpPr>
          <p:spPr>
            <a:xfrm>
              <a:off x="4770360" y="4149720"/>
              <a:ext cx="761760" cy="202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Line 10"/>
          <p:cNvSpPr/>
          <p:nvPr/>
        </p:nvSpPr>
        <p:spPr>
          <a:xfrm flipH="1">
            <a:off x="2587320" y="5176800"/>
            <a:ext cx="3686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1"/>
          <p:cNvSpPr/>
          <p:nvPr/>
        </p:nvSpPr>
        <p:spPr>
          <a:xfrm>
            <a:off x="5173560" y="5040360"/>
            <a:ext cx="1584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2"/>
          <p:cNvSpPr/>
          <p:nvPr/>
        </p:nvSpPr>
        <p:spPr>
          <a:xfrm>
            <a:off x="2716200" y="4484520"/>
            <a:ext cx="3497400" cy="10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13"/>
          <p:cNvSpPr/>
          <p:nvPr/>
        </p:nvSpPr>
        <p:spPr>
          <a:xfrm flipH="1" flipV="1">
            <a:off x="3242880" y="5484600"/>
            <a:ext cx="2903400" cy="14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22"/>
          <p:cNvSpPr/>
          <p:nvPr/>
        </p:nvSpPr>
        <p:spPr>
          <a:xfrm>
            <a:off x="5024520" y="4699080"/>
            <a:ext cx="8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800" spc="-1" strike="noStrike" u="sng">
                <a:solidFill>
                  <a:srgbClr val="000000"/>
                </a:solidFill>
                <a:uFillTx/>
                <a:latin typeface="Arial"/>
              </a:rPr>
              <a:t>Ray Diagra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743040" y="1619280"/>
            <a:ext cx="748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Rule 3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: An incident ray headed towards the pole reflects back at an equal 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5"/>
          <p:cNvSpPr/>
          <p:nvPr/>
        </p:nvSpPr>
        <p:spPr>
          <a:xfrm>
            <a:off x="1477800" y="3411360"/>
            <a:ext cx="5034240" cy="290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Group 6"/>
          <p:cNvGrpSpPr/>
          <p:nvPr/>
        </p:nvGrpSpPr>
        <p:grpSpPr>
          <a:xfrm>
            <a:off x="3927600" y="3817800"/>
            <a:ext cx="1611000" cy="2113200"/>
            <a:chOff x="3927600" y="3817800"/>
            <a:chExt cx="1611000" cy="2113200"/>
          </a:xfrm>
        </p:grpSpPr>
        <p:sp>
          <p:nvSpPr>
            <p:cNvPr id="775" name="AutoShape 7"/>
            <p:cNvSpPr/>
            <p:nvPr/>
          </p:nvSpPr>
          <p:spPr>
            <a:xfrm>
              <a:off x="4179600" y="3885480"/>
              <a:ext cx="1359000" cy="1978920"/>
            </a:xfrm>
            <a:prstGeom prst="flowChartDelay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AutoShape 8"/>
            <p:cNvSpPr/>
            <p:nvPr/>
          </p:nvSpPr>
          <p:spPr>
            <a:xfrm>
              <a:off x="4060440" y="3985920"/>
              <a:ext cx="1373040" cy="1795320"/>
            </a:xfrm>
            <a:prstGeom prst="flowChartDelay">
              <a:avLst/>
            </a:prstGeom>
            <a:solidFill>
              <a:srgbClr val="ffffff"/>
            </a:solidFill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9"/>
            <p:cNvSpPr/>
            <p:nvPr/>
          </p:nvSpPr>
          <p:spPr>
            <a:xfrm>
              <a:off x="3927600" y="3817800"/>
              <a:ext cx="783360" cy="211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Line 10"/>
          <p:cNvSpPr/>
          <p:nvPr/>
        </p:nvSpPr>
        <p:spPr>
          <a:xfrm flipH="1">
            <a:off x="1684440" y="4889520"/>
            <a:ext cx="37209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1"/>
          <p:cNvSpPr/>
          <p:nvPr/>
        </p:nvSpPr>
        <p:spPr>
          <a:xfrm>
            <a:off x="4343400" y="4746600"/>
            <a:ext cx="15840" cy="28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2"/>
          <p:cNvSpPr/>
          <p:nvPr/>
        </p:nvSpPr>
        <p:spPr>
          <a:xfrm>
            <a:off x="1816200" y="4167360"/>
            <a:ext cx="3627360" cy="73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3"/>
          <p:cNvSpPr/>
          <p:nvPr/>
        </p:nvSpPr>
        <p:spPr>
          <a:xfrm flipH="1">
            <a:off x="2073240" y="4898880"/>
            <a:ext cx="3368880" cy="71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15" descr="j0237671"/>
          <p:cNvPicPr/>
          <p:nvPr/>
        </p:nvPicPr>
        <p:blipFill>
          <a:blip r:embed="rId1"/>
          <a:stretch/>
        </p:blipFill>
        <p:spPr>
          <a:xfrm>
            <a:off x="1684440" y="3691080"/>
            <a:ext cx="384120" cy="1204920"/>
          </a:xfrm>
          <a:prstGeom prst="rect">
            <a:avLst/>
          </a:prstGeom>
          <a:ln w="0">
            <a:noFill/>
          </a:ln>
        </p:spPr>
      </p:pic>
      <p:sp>
        <p:nvSpPr>
          <p:cNvPr id="783" name="Text Box 22"/>
          <p:cNvSpPr/>
          <p:nvPr/>
        </p:nvSpPr>
        <p:spPr>
          <a:xfrm>
            <a:off x="3633840" y="4832280"/>
            <a:ext cx="8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22"/>
          <p:cNvSpPr/>
          <p:nvPr/>
        </p:nvSpPr>
        <p:spPr>
          <a:xfrm>
            <a:off x="5329080" y="4660920"/>
            <a:ext cx="8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165240" y="603000"/>
            <a:ext cx="9169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ll three combined allow you to find the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 this example the image is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inverted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diminished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6"/>
          <p:cNvSpPr/>
          <p:nvPr/>
        </p:nvSpPr>
        <p:spPr>
          <a:xfrm>
            <a:off x="1487520" y="3076560"/>
            <a:ext cx="6026040" cy="333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Picture 7" descr="j0237671"/>
          <p:cNvPicPr/>
          <p:nvPr/>
        </p:nvPicPr>
        <p:blipFill>
          <a:blip r:embed="rId1"/>
          <a:stretch/>
        </p:blipFill>
        <p:spPr>
          <a:xfrm>
            <a:off x="2195640" y="3419640"/>
            <a:ext cx="452160" cy="1361880"/>
          </a:xfrm>
          <a:prstGeom prst="rect">
            <a:avLst/>
          </a:prstGeom>
          <a:ln w="0">
            <a:noFill/>
          </a:ln>
        </p:spPr>
      </p:pic>
      <p:grpSp>
        <p:nvGrpSpPr>
          <p:cNvPr id="788" name="Group 8"/>
          <p:cNvGrpSpPr/>
          <p:nvPr/>
        </p:nvGrpSpPr>
        <p:grpSpPr>
          <a:xfrm>
            <a:off x="4902120" y="3560760"/>
            <a:ext cx="1928520" cy="2428560"/>
            <a:chOff x="4902120" y="3560760"/>
            <a:chExt cx="1928520" cy="2428560"/>
          </a:xfrm>
        </p:grpSpPr>
        <p:sp>
          <p:nvSpPr>
            <p:cNvPr id="789" name="AutoShape 9"/>
            <p:cNvSpPr/>
            <p:nvPr/>
          </p:nvSpPr>
          <p:spPr>
            <a:xfrm>
              <a:off x="5203800" y="3638520"/>
              <a:ext cx="1626840" cy="2274480"/>
            </a:xfrm>
            <a:prstGeom prst="flowChartDelay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AutoShape 10"/>
            <p:cNvSpPr/>
            <p:nvPr/>
          </p:nvSpPr>
          <p:spPr>
            <a:xfrm>
              <a:off x="5061240" y="3754080"/>
              <a:ext cx="1643400" cy="2063520"/>
            </a:xfrm>
            <a:prstGeom prst="flowChartDelay">
              <a:avLst/>
            </a:prstGeom>
            <a:solidFill>
              <a:srgbClr val="ffffff"/>
            </a:solidFill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11"/>
            <p:cNvSpPr/>
            <p:nvPr/>
          </p:nvSpPr>
          <p:spPr>
            <a:xfrm>
              <a:off x="4902120" y="3560760"/>
              <a:ext cx="937800" cy="242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2" name="Line 12"/>
          <p:cNvSpPr/>
          <p:nvPr/>
        </p:nvSpPr>
        <p:spPr>
          <a:xfrm flipH="1">
            <a:off x="2217240" y="4791240"/>
            <a:ext cx="4534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3"/>
          <p:cNvSpPr/>
          <p:nvPr/>
        </p:nvSpPr>
        <p:spPr>
          <a:xfrm>
            <a:off x="4699080" y="4641840"/>
            <a:ext cx="19080" cy="32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4"/>
          <p:cNvSpPr/>
          <p:nvPr/>
        </p:nvSpPr>
        <p:spPr>
          <a:xfrm>
            <a:off x="2374920" y="3960720"/>
            <a:ext cx="4102200" cy="148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5"/>
          <p:cNvSpPr/>
          <p:nvPr/>
        </p:nvSpPr>
        <p:spPr>
          <a:xfrm flipH="1" flipV="1">
            <a:off x="2344320" y="5438880"/>
            <a:ext cx="4071960" cy="1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16"/>
          <p:cNvSpPr/>
          <p:nvPr/>
        </p:nvSpPr>
        <p:spPr>
          <a:xfrm>
            <a:off x="2386080" y="3952800"/>
            <a:ext cx="394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17"/>
          <p:cNvSpPr/>
          <p:nvPr/>
        </p:nvSpPr>
        <p:spPr>
          <a:xfrm flipH="1">
            <a:off x="2768400" y="3952800"/>
            <a:ext cx="3562200" cy="185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8"/>
          <p:cNvSpPr/>
          <p:nvPr/>
        </p:nvSpPr>
        <p:spPr>
          <a:xfrm>
            <a:off x="2386080" y="3952800"/>
            <a:ext cx="426564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9"/>
          <p:cNvSpPr/>
          <p:nvPr/>
        </p:nvSpPr>
        <p:spPr>
          <a:xfrm flipH="1">
            <a:off x="2525400" y="4791240"/>
            <a:ext cx="4125960" cy="823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Picture 32" descr="j0237671"/>
          <p:cNvPicPr/>
          <p:nvPr/>
        </p:nvPicPr>
        <p:blipFill>
          <a:blip r:embed="rId2"/>
          <a:stretch/>
        </p:blipFill>
        <p:spPr>
          <a:xfrm flipH="1" rot="10800000">
            <a:off x="3371760" y="4797360"/>
            <a:ext cx="358920" cy="1076400"/>
          </a:xfrm>
          <a:prstGeom prst="rect">
            <a:avLst/>
          </a:prstGeom>
          <a:ln w="0">
            <a:noFill/>
          </a:ln>
        </p:spPr>
      </p:pic>
      <p:sp>
        <p:nvSpPr>
          <p:cNvPr id="801" name="Text Box 22"/>
          <p:cNvSpPr/>
          <p:nvPr/>
        </p:nvSpPr>
        <p:spPr>
          <a:xfrm>
            <a:off x="4224240" y="4336920"/>
            <a:ext cx="8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22"/>
          <p:cNvSpPr/>
          <p:nvPr/>
        </p:nvSpPr>
        <p:spPr>
          <a:xfrm>
            <a:off x="6643800" y="4584600"/>
            <a:ext cx="8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22"/>
          <p:cNvSpPr/>
          <p:nvPr/>
        </p:nvSpPr>
        <p:spPr>
          <a:xfrm>
            <a:off x="1633680" y="304164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22"/>
          <p:cNvSpPr/>
          <p:nvPr/>
        </p:nvSpPr>
        <p:spPr>
          <a:xfrm>
            <a:off x="2871720" y="5861160"/>
            <a:ext cx="12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Concave Mirr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Concave (or converging)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irrors focus light at the focal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23"/>
          <p:cNvSpPr/>
          <p:nvPr/>
        </p:nvSpPr>
        <p:spPr>
          <a:xfrm>
            <a:off x="700200" y="2724120"/>
            <a:ext cx="7699320" cy="32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Group 8"/>
          <p:cNvGrpSpPr/>
          <p:nvPr/>
        </p:nvGrpSpPr>
        <p:grpSpPr>
          <a:xfrm>
            <a:off x="4470480" y="3198960"/>
            <a:ext cx="2463480" cy="2391840"/>
            <a:chOff x="4470480" y="3198960"/>
            <a:chExt cx="2463480" cy="2391840"/>
          </a:xfrm>
        </p:grpSpPr>
        <p:sp>
          <p:nvSpPr>
            <p:cNvPr id="809" name="AutoShape 9"/>
            <p:cNvSpPr/>
            <p:nvPr/>
          </p:nvSpPr>
          <p:spPr>
            <a:xfrm>
              <a:off x="4855680" y="3275640"/>
              <a:ext cx="2078280" cy="2240280"/>
            </a:xfrm>
            <a:prstGeom prst="flowChartDelay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AutoShape 10"/>
            <p:cNvSpPr/>
            <p:nvPr/>
          </p:nvSpPr>
          <p:spPr>
            <a:xfrm>
              <a:off x="4673880" y="3389400"/>
              <a:ext cx="2099160" cy="2032200"/>
            </a:xfrm>
            <a:prstGeom prst="flowChartDelay">
              <a:avLst/>
            </a:prstGeom>
            <a:solidFill>
              <a:srgbClr val="ffffff"/>
            </a:solidFill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11"/>
            <p:cNvSpPr/>
            <p:nvPr/>
          </p:nvSpPr>
          <p:spPr>
            <a:xfrm>
              <a:off x="4470480" y="3198960"/>
              <a:ext cx="1197720" cy="239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Line 12"/>
          <p:cNvSpPr/>
          <p:nvPr/>
        </p:nvSpPr>
        <p:spPr>
          <a:xfrm flipH="1">
            <a:off x="1015560" y="4394160"/>
            <a:ext cx="5689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13"/>
          <p:cNvSpPr/>
          <p:nvPr/>
        </p:nvSpPr>
        <p:spPr>
          <a:xfrm>
            <a:off x="5600880" y="4205160"/>
            <a:ext cx="2376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14"/>
          <p:cNvSpPr/>
          <p:nvPr/>
        </p:nvSpPr>
        <p:spPr>
          <a:xfrm>
            <a:off x="1197000" y="3957480"/>
            <a:ext cx="541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15"/>
          <p:cNvSpPr/>
          <p:nvPr/>
        </p:nvSpPr>
        <p:spPr>
          <a:xfrm>
            <a:off x="1219320" y="3578400"/>
            <a:ext cx="505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16"/>
          <p:cNvSpPr/>
          <p:nvPr/>
        </p:nvSpPr>
        <p:spPr>
          <a:xfrm>
            <a:off x="1241280" y="4830840"/>
            <a:ext cx="537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17"/>
          <p:cNvSpPr/>
          <p:nvPr/>
        </p:nvSpPr>
        <p:spPr>
          <a:xfrm>
            <a:off x="1195560" y="5210280"/>
            <a:ext cx="5130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19"/>
          <p:cNvSpPr/>
          <p:nvPr/>
        </p:nvSpPr>
        <p:spPr>
          <a:xfrm flipH="1">
            <a:off x="4584240" y="3578400"/>
            <a:ext cx="1693800" cy="193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20"/>
          <p:cNvSpPr/>
          <p:nvPr/>
        </p:nvSpPr>
        <p:spPr>
          <a:xfrm flipH="1">
            <a:off x="4019040" y="3940200"/>
            <a:ext cx="2597400" cy="1119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21"/>
          <p:cNvSpPr/>
          <p:nvPr/>
        </p:nvSpPr>
        <p:spPr>
          <a:xfrm flipH="1" flipV="1">
            <a:off x="4087800" y="3711240"/>
            <a:ext cx="2550960" cy="1119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22"/>
          <p:cNvSpPr/>
          <p:nvPr/>
        </p:nvSpPr>
        <p:spPr>
          <a:xfrm flipH="1" flipV="1">
            <a:off x="4560480" y="3141720"/>
            <a:ext cx="1738440" cy="206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22"/>
          <p:cNvSpPr/>
          <p:nvPr/>
        </p:nvSpPr>
        <p:spPr>
          <a:xfrm>
            <a:off x="5214960" y="3784680"/>
            <a:ext cx="8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7542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Convex Mirror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723960" y="1085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nvex mirrors have a focal point behind the mir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nvex (or diverging) mirrors spread the light rays apart so that they appear to have come from the focal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24"/>
          <p:cNvSpPr/>
          <p:nvPr/>
        </p:nvSpPr>
        <p:spPr>
          <a:xfrm>
            <a:off x="2023920" y="3657600"/>
            <a:ext cx="5088240" cy="290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Group 4"/>
          <p:cNvGrpSpPr/>
          <p:nvPr/>
        </p:nvGrpSpPr>
        <p:grpSpPr>
          <a:xfrm>
            <a:off x="4669920" y="4363920"/>
            <a:ext cx="1616400" cy="1600200"/>
            <a:chOff x="4669920" y="4363920"/>
            <a:chExt cx="1616400" cy="1600200"/>
          </a:xfrm>
        </p:grpSpPr>
        <p:sp>
          <p:nvSpPr>
            <p:cNvPr id="827" name="AutoShape 5"/>
            <p:cNvSpPr/>
            <p:nvPr/>
          </p:nvSpPr>
          <p:spPr>
            <a:xfrm flipH="1">
              <a:off x="4669560" y="4479480"/>
              <a:ext cx="1567080" cy="1359720"/>
            </a:xfrm>
            <a:prstGeom prst="flowChartDelay">
              <a:avLst/>
            </a:prstGeom>
            <a:solidFill>
              <a:srgbClr val="ffffff"/>
            </a:solidFill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AutoShape 6"/>
            <p:cNvSpPr/>
            <p:nvPr/>
          </p:nvSpPr>
          <p:spPr>
            <a:xfrm flipH="1">
              <a:off x="4767840" y="4581720"/>
              <a:ext cx="1349280" cy="1181160"/>
            </a:xfrm>
            <a:prstGeom prst="flowChartDelay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7"/>
            <p:cNvSpPr/>
            <p:nvPr/>
          </p:nvSpPr>
          <p:spPr>
            <a:xfrm flipH="1">
              <a:off x="5392080" y="4363920"/>
              <a:ext cx="894240" cy="16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Line 8"/>
          <p:cNvSpPr/>
          <p:nvPr/>
        </p:nvSpPr>
        <p:spPr>
          <a:xfrm>
            <a:off x="2075040" y="5156280"/>
            <a:ext cx="4884480" cy="12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9"/>
          <p:cNvSpPr/>
          <p:nvPr/>
        </p:nvSpPr>
        <p:spPr>
          <a:xfrm>
            <a:off x="2309760" y="4876920"/>
            <a:ext cx="24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10"/>
          <p:cNvSpPr/>
          <p:nvPr/>
        </p:nvSpPr>
        <p:spPr>
          <a:xfrm>
            <a:off x="2292480" y="4584600"/>
            <a:ext cx="269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11"/>
          <p:cNvSpPr/>
          <p:nvPr/>
        </p:nvSpPr>
        <p:spPr>
          <a:xfrm>
            <a:off x="2360520" y="5410080"/>
            <a:ext cx="232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12"/>
          <p:cNvSpPr/>
          <p:nvPr/>
        </p:nvSpPr>
        <p:spPr>
          <a:xfrm>
            <a:off x="2327400" y="5715000"/>
            <a:ext cx="264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13"/>
          <p:cNvSpPr/>
          <p:nvPr/>
        </p:nvSpPr>
        <p:spPr>
          <a:xfrm>
            <a:off x="6151680" y="5041800"/>
            <a:ext cx="1728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14"/>
          <p:cNvSpPr/>
          <p:nvPr/>
        </p:nvSpPr>
        <p:spPr>
          <a:xfrm>
            <a:off x="4971960" y="4584600"/>
            <a:ext cx="1179720" cy="571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15"/>
          <p:cNvSpPr/>
          <p:nvPr/>
        </p:nvSpPr>
        <p:spPr>
          <a:xfrm>
            <a:off x="4719600" y="4876920"/>
            <a:ext cx="1432080" cy="279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16"/>
          <p:cNvSpPr/>
          <p:nvPr/>
        </p:nvSpPr>
        <p:spPr>
          <a:xfrm flipV="1">
            <a:off x="4719600" y="5155920"/>
            <a:ext cx="1432080" cy="253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17"/>
          <p:cNvSpPr/>
          <p:nvPr/>
        </p:nvSpPr>
        <p:spPr>
          <a:xfrm flipV="1">
            <a:off x="5006880" y="5156280"/>
            <a:ext cx="1144800" cy="558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19"/>
          <p:cNvSpPr/>
          <p:nvPr/>
        </p:nvSpPr>
        <p:spPr>
          <a:xfrm flipH="1" flipV="1">
            <a:off x="3404880" y="3809880"/>
            <a:ext cx="1601640" cy="78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20"/>
          <p:cNvSpPr/>
          <p:nvPr/>
        </p:nvSpPr>
        <p:spPr>
          <a:xfrm flipH="1" flipV="1">
            <a:off x="2612520" y="4419720"/>
            <a:ext cx="2140200" cy="44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21"/>
          <p:cNvSpPr/>
          <p:nvPr/>
        </p:nvSpPr>
        <p:spPr>
          <a:xfrm flipH="1">
            <a:off x="2495160" y="5397480"/>
            <a:ext cx="2257560" cy="41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22"/>
          <p:cNvSpPr/>
          <p:nvPr/>
        </p:nvSpPr>
        <p:spPr>
          <a:xfrm flipH="1">
            <a:off x="3641400" y="5676840"/>
            <a:ext cx="1398600" cy="660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22"/>
          <p:cNvSpPr/>
          <p:nvPr/>
        </p:nvSpPr>
        <p:spPr>
          <a:xfrm>
            <a:off x="5919840" y="4699080"/>
            <a:ext cx="8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0:50:23Z</dcterms:created>
  <dc:creator>Cashmere High School</dc:creator>
  <dc:description/>
  <dc:language>en-US</dc:language>
  <cp:lastModifiedBy>Leith</cp:lastModifiedBy>
  <cp:lastPrinted>2003-11-11T21:01:29Z</cp:lastPrinted>
  <dcterms:modified xsi:type="dcterms:W3CDTF">2012-03-12T08:28:16Z</dcterms:modified>
  <cp:revision>44</cp:revision>
  <dc:subject/>
  <dc:title>Light &amp; Waves</dc:title>
</cp:coreProperties>
</file>